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FCE-59CF-423A-816B-3EDF84CA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D89-C51E-4875-812F-283B9DC2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BAE-507F-420E-AA29-0860D190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C76-C910-46E0-B38D-6E9E2A61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C62B-E208-481C-80A6-62E94F7C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6DBC-9E0C-4189-B84C-DD6004BE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33DE-B858-404B-A657-C9228CB6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44DF-A0EF-41E5-9BAF-4E817526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A15A-10FE-40C2-BBC0-9C3320EE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D64C-84EC-4E33-BBFD-96623B74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06D3-05C0-4A5C-AA39-2CC1F093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AF9-999C-43DF-8862-BA679F43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EC61-F460-439F-BC9E-A49B6281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6EB3-BC79-415D-8329-C2EAA9C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0D00-6C7B-4B1E-BC08-5C2369DC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3071-37EE-4BAB-B9A1-18F276A7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0AC9-0974-4FB2-AA1D-5301D56F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EEF-2D60-487F-81A2-8D202675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A0B-3EDB-4B1D-8FB4-70372F42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4C5-D619-4536-8FFD-55E5E4EF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903-36E5-4BD1-BA6D-4F317A93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65D-554B-443F-B4F7-06F4BBDE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D73-9EEF-4A93-9C68-5147A686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3DA-D17E-4C76-BB3E-229C19E0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65BC-8B30-4303-A720-93736DA66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5D18-842A-460E-8F0E-A3AF57DA7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nal Exam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ing Engineering and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ltiple Choice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_  is a situation that requires a solution to extend human capabilities and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 is a requirement necessary to solve a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 is a Limitation given when trying to solve a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_ are resources used to build a product or de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_ are devices used to construct a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_ is done when a force pushes or pulls an object, causing the object to m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_ is the ability to do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_ energy is the energy an object has because of its 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n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_ energy is energy that is stored in an object because of its position, shape, or some other fe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n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of the following are fossil fue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stru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Pencil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a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your Name, Date, and Class Period on your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the appropriate answer on your sheet with the corresponding letter on the power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.  Which of the following are unlimited energy sour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vit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othe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of the following are renewable energy sour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/Animal Muscle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of the following is a type of eng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rnal Combu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al Combu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cl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1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 is an important input of a technology syst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2 - 29.  Arrange the Problem Solving Steps in the correct 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Model and Prototy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State Constraints and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Testing and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. Defin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. Research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. Alternative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C E. Final Solution. Final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Technology is any product or device that extends human capabilities or solves a n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blem is a situation that requires us to create a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A constraint is the requirements necessary to solve a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Criteria is the limits placed on a materials, or cost, in order to make a de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Work is the ability to move an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Energy is the power needed for us to do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Power is the output of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22:12:07Z</dcterms:created>
  <dc:creator>GSCS</dc:creator>
  <dc:description/>
  <dc:language>en-US</dc:language>
  <cp:lastModifiedBy>Johnson</cp:lastModifiedBy>
  <dcterms:modified xsi:type="dcterms:W3CDTF">2012-06-01T15:09:20Z</dcterms:modified>
  <cp:revision>6</cp:revision>
  <dc:subject/>
  <dc:title>Final Exam </dc:title>
</cp:coreProperties>
</file>